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5.gif" ContentType="image/gif"/>
  <Override PartName="/ppt/media/image46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51.png" ContentType="image/png"/>
  <Override PartName="/ppt/media/image4.jpeg" ContentType="image/jpeg"/>
  <Override PartName="/ppt/media/image50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22.jpeg" ContentType="image/jpeg"/>
  <Override PartName="/ppt/media/image32.wmf" ContentType="image/x-wmf"/>
  <Override PartName="/ppt/media/image2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9.gif" ContentType="image/gif"/>
  <Override PartName="/ppt/media/image69.jpeg" ContentType="image/jpeg"/>
  <Override PartName="/ppt/media/image18.jpeg" ContentType="image/jpeg"/>
  <Override PartName="/ppt/media/image59.gif" ContentType="image/gif"/>
  <Override PartName="/ppt/media/image71.jpeg" ContentType="image/jpeg"/>
  <Override PartName="/ppt/media/image26.jpeg" ContentType="image/jpeg"/>
  <Override PartName="/ppt/media/image42.png" ContentType="image/png"/>
  <Override PartName="/ppt/media/image70.jpeg" ContentType="image/jpeg"/>
  <Override PartName="/ppt/media/image35.png" ContentType="image/png"/>
  <Override PartName="/ppt/media/image30.png" ContentType="image/png"/>
  <Override PartName="/ppt/media/image41.png" ContentType="image/png"/>
  <Override PartName="/ppt/media/image3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8.jpeg" ContentType="image/jpeg"/>
  <Override PartName="/ppt/media/image73.jpeg" ContentType="image/jpeg"/>
  <Override PartName="/ppt/media/image24.png" ContentType="image/png"/>
  <Override PartName="/ppt/media/image62.png" ContentType="image/png"/>
  <Override PartName="/ppt/media/image27.png" ContentType="image/png"/>
  <Override PartName="/ppt/media/image17.jpeg" ContentType="image/jpeg"/>
  <Override PartName="/ppt/media/image61.jpeg" ContentType="image/jpeg"/>
  <Override PartName="/ppt/media/image40.png" ContentType="image/png"/>
  <Override PartName="/ppt/media/image63.png" ContentType="image/png"/>
  <Override PartName="/ppt/media/image60.gif" ContentType="image/gif"/>
  <Override PartName="/ppt/media/image39.png" ContentType="image/png"/>
  <Override PartName="/ppt/media/image64.jpeg" ContentType="image/jpeg"/>
  <Override PartName="/ppt/media/image7.jpeg" ContentType="image/jpeg"/>
  <Override PartName="/ppt/media/image43.jpeg" ContentType="image/jpeg"/>
  <Override PartName="/ppt/media/image28.png" ContentType="image/png"/>
  <Override PartName="/ppt/media/image19.png" ContentType="image/png"/>
  <Override PartName="/ppt/media/image5.jpeg" ContentType="image/jpeg"/>
  <Override PartName="/ppt/media/image6.jpeg" ContentType="image/jpeg"/>
  <Override PartName="/ppt/media/image20.png" ContentType="image/png"/>
  <Override PartName="/ppt/media/image57.png" ContentType="image/png"/>
  <Override PartName="/ppt/media/image25.png" ContentType="image/png"/>
  <Override PartName="/ppt/media/image72.jpeg" ContentType="image/jpeg"/>
  <Override PartName="/ppt/media/image11.gif" ContentType="image/gif"/>
  <Override PartName="/ppt/media/image2.png" ContentType="image/png"/>
  <Override PartName="/ppt/media/image10.wmf" ContentType="image/x-wmf"/>
  <Override PartName="/ppt/media/image31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44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56.gif" ContentType="image/gif"/>
  <Override PartName="/ppt/media/image66.jpeg" ContentType="image/jpeg"/>
  <Override PartName="/ppt/media/image74.jpeg" ContentType="image/jpeg"/>
  <Override PartName="/ppt/media/image34.png" ContentType="image/png"/>
  <Override PartName="/ppt/media/image36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D1D-2FA0-4DEC-90EF-9DAD601462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F66-5F54-48CF-9FD9-6ED335A665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E6C-2966-4AE1-8719-2886460C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4EB-AFAF-408E-B432-D9FAA03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027-4D52-461D-9A55-F548DE01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43E-0AC8-418C-89AF-7481B126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5D5-9EB8-4DFF-A37F-6ED53F2E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E9B-2F9F-47FD-8BAF-FA58DB1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390-82E0-40C3-B774-21E8FF8C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B8D-AF40-4A6B-9DB1-671CB4B0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3B4-39B2-48D5-A628-68AC25AB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9AD-D818-43CB-B063-07EC151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393-304B-4DBA-B173-D488C078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D03-5E6B-4699-8A25-04D74E4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C16A-B817-4FCB-A7DF-6A19D8611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infosite.by/upload/iblock/eee/kvn_redaktor.gif&amp;imgrefurl=http://blog.no-boss.ru/showjournal.php?journalid=3466522&amp;tagid=195914&amp;usg=__QNcyKHnr5P-LI7B-uUAkt-TCl4k=&amp;h=455&amp;w=433&amp;sz=9&amp;hl=ru&amp;start=42&amp;itbs=1&amp;tbnid=caEEGGgakeCNQM:&amp;tbnh=128&amp;tbnw=122&amp;prev=/images?q=&#1088;&#1077;&#1076;&#1072;&#1082;&#1090;&#1086;&#1088;+&#1075;&#1072;&#1079;&#1077;&#1090;&#1099;&amp;gbv=2&amp;ndsp=21&amp;hl=ru&amp;sa=N&amp;start=21&amp;newwindow=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ru/imgres?imgurl=http://wallpaper.zoda.ru/bd/2006/11/05/e199f3ba12c00789a8ee49f96c4d8166.jpg&amp;imgrefurl=http://wallpaper.zoda.ru/anime/wpeews.html&amp;usg=__nE89pBaXBgyWV9dbqeYOjbO_leY=&amp;h=768&amp;w=1024&amp;sz=141&amp;hl=ru&amp;start=1&amp;itbs=1&amp;tbnid=a3O2PKS7e_wDCM:&amp;tbnh=113&amp;tbnw=150&amp;prev=/images?q=&#1088;&#1077;&#1076;&#1072;&#1082;&#1090;&#1086;&#1088;+&#1075;&#1072;&#1079;&#1077;&#1090;&#1099;&amp;gbv=2&amp;ndsp=21&amp;hl=ru&amp;sa=N&amp;newwindow=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ru/imgres?imgurl=http://www.terehov.ru/press/meie-maa-big-text.gif&amp;imgrefurl=http://www.terehov.ru/press.htm&amp;usg=__3AHJqHyiacnYel7aXjZcVwXj1dI=&amp;h=1624&amp;w=1148&amp;sz=198&amp;hl=ru&amp;start=55&amp;itbs=1&amp;tbnid=qi-EWlaf0lqrsM:&amp;tbnh=150&amp;tbnw=106&amp;prev=/images?q=&#1093;&#1091;&#1076;&#1086;&#1078;&#1085;&#1080;&#1082;+&#1086;&#1092;&#1086;&#1088;&#1084;&#1080;&#1090;&#1077;&#1083;&#1100;+&#1075;&#1072;&#1079;&#1077;&#1090;&#1099;&amp;gbv=2&amp;ndsp=21&amp;hl=ru&amp;sa=N&amp;start=42&amp;newwindow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ru/imgres?imgurl=http://2.bp.blogspot.com/_vYPIDwOMhm4/R0_hGVpX97I/AAAAAAAAFiY/ECwsZu2qZyg/s1600-R/MakovskijVE_0001.jpg&amp;imgrefurl=http://otkritka-reprodukzija.blogspot.com/2007_11_01_archive.html&amp;usg=__Hg6G3ShHXjYw705Eyr4ekX_YUtE=&amp;h=657&amp;w=438&amp;sz=44&amp;hl=ru&amp;start=133&amp;itbs=1&amp;tbnid=NlaEWQbDEXuktM:&amp;tbnh=138&amp;tbnw=92&amp;prev=/images?q=&#1093;&#1091;&#1076;&#1086;&#1078;&#1085;&#1080;&#1082;+&#1086;&#1092;&#1086;&#1088;&#1084;&#1080;&#1090;&#1077;&#1083;&#1100;+&#1075;&#1072;&#1079;&#1077;&#1090;&#1099;&amp;gbv=2&amp;ndsp=21&amp;hl=ru&amp;sa=N&amp;start=126&amp;newwindow=1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5.gif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6.gif"/><Relationship Id="rId8" Type="http://schemas.openxmlformats.org/officeDocument/2006/relationships/image" Target="../media/image56.gif"/><Relationship Id="rId9" Type="http://schemas.openxmlformats.org/officeDocument/2006/relationships/image" Target="../media/image56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539640" y="712440"/>
            <a:ext cx="7993080" cy="484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 класс программа « 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учебник Рамзаева Т.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Тема урок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«Наблюдение над словами признак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Упражнения в подборе слов – признак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обобщающий уро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kniga40"/>
          <p:cNvPicPr/>
          <p:nvPr/>
        </p:nvPicPr>
        <p:blipFill>
          <a:blip r:embed="rId2"/>
          <a:stretch/>
        </p:blipFill>
        <p:spPr>
          <a:xfrm>
            <a:off x="0" y="714240"/>
            <a:ext cx="9144000" cy="59486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7"/>
          <p:cNvSpPr txBox="1"/>
          <p:nvPr/>
        </p:nvSpPr>
        <p:spPr>
          <a:xfrm>
            <a:off x="785880" y="3286080"/>
            <a:ext cx="761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1116000" y="5734080"/>
            <a:ext cx="7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5500800" y="3357720"/>
            <a:ext cx="691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b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b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59280" y="5877000"/>
            <a:ext cx="762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928800" y="2000160"/>
            <a:ext cx="214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тливый ,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971640" y="4365720"/>
            <a:ext cx="23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ный ,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4857840" y="2000160"/>
            <a:ext cx="22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b05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усливый,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b05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4788000" y="436572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ивый ,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WordArt 16"/>
          <p:cNvSpPr txBox="1"/>
          <p:nvPr/>
        </p:nvSpPr>
        <p:spPr>
          <a:xfrm>
            <a:off x="928800" y="285840"/>
            <a:ext cx="748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бери слова, отвечающие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вопрос КАКОЙ?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928880" y="2786040"/>
            <a:ext cx="2286000" cy="1500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4"/>
          <a:stretch/>
        </p:blipFill>
        <p:spPr>
          <a:xfrm>
            <a:off x="6643800" y="2786040"/>
            <a:ext cx="1500120" cy="145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http://bestgif.narod.ru/jivotnie/bestgif.narod.ru_5142.gif"/>
          <p:cNvPicPr/>
          <p:nvPr/>
        </p:nvPicPr>
        <p:blipFill>
          <a:blip r:embed="rId5"/>
          <a:stretch/>
        </p:blipFill>
        <p:spPr>
          <a:xfrm>
            <a:off x="6500880" y="5072040"/>
            <a:ext cx="207180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"/>
          <p:cNvPicPr/>
          <p:nvPr/>
        </p:nvPicPr>
        <p:blipFill>
          <a:blip r:embed="rId6"/>
          <a:stretch/>
        </p:blipFill>
        <p:spPr>
          <a:xfrm>
            <a:off x="2571840" y="5143680"/>
            <a:ext cx="158436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214280" y="428760"/>
          <a:ext cx="6096240" cy="5851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58514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638280"/>
                          <a:tab algn="ctr" pos="221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220fb1"/>
                          </a:solidFill>
                          <a:latin typeface="Times New Roman"/>
                          <a:ea typeface="Times New Roman"/>
                        </a:rPr>
                        <a:t>красивое       овощ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638280"/>
                          <a:tab algn="ctr" pos="221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220fb1"/>
                          </a:solidFill>
                          <a:latin typeface="Times New Roman"/>
                          <a:ea typeface="Times New Roman"/>
                        </a:rPr>
                        <a:t>спелые          дерев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638280"/>
                          <a:tab algn="ctr" pos="221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220fb1"/>
                          </a:solidFill>
                          <a:latin typeface="Times New Roman"/>
                          <a:ea typeface="Times New Roman"/>
                        </a:rPr>
                        <a:t>богатый          ягод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638280"/>
                          <a:tab algn="ctr" pos="2216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220fb1"/>
                          </a:solidFill>
                          <a:latin typeface="Times New Roman"/>
                          <a:ea typeface="Times New Roman"/>
                        </a:rPr>
                        <a:t>сладкая         урожа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Прямая со стрелкой 7" descr=""/>
          <p:cNvPicPr/>
          <p:nvPr/>
        </p:nvPicPr>
        <p:blipFill>
          <a:blip r:embed="rId1"/>
          <a:stretch/>
        </p:blipFill>
        <p:spPr>
          <a:xfrm>
            <a:off x="3749760" y="1517760"/>
            <a:ext cx="1365120" cy="15793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3249720" y="1359000"/>
            <a:ext cx="1938240" cy="179856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3535200" y="4230720"/>
            <a:ext cx="1725840" cy="16524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3395520" y="4218120"/>
            <a:ext cx="2078280" cy="1512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7"/>
          <p:cNvSpPr/>
          <p:nvPr/>
        </p:nvSpPr>
        <p:spPr>
          <a:xfrm>
            <a:off x="1643040" y="214200"/>
            <a:ext cx="5430960" cy="52056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Найди пару « Признак – предм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714240" y="357120"/>
            <a:ext cx="7929720" cy="11912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Образуй прилагательные от данных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504720" y="2071800"/>
            <a:ext cx="21636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0fb1"/>
                </a:solidFill>
                <a:latin typeface="Calibri"/>
              </a:rPr>
              <a:t>река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0fb1"/>
                </a:solidFill>
                <a:latin typeface="Calibri"/>
              </a:rPr>
              <a:t>осень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0fb1"/>
                </a:solidFill>
                <a:latin typeface="Calibri"/>
              </a:rPr>
              <a:t>книга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20fb1"/>
                </a:solidFill>
                <a:latin typeface="Calibri"/>
              </a:rPr>
              <a:t>картон</a:t>
            </a:r>
            <a:r>
              <a:rPr b="0" lang="en-US" sz="4000" spc="-1" strike="noStrike">
                <a:solidFill>
                  <a:srgbClr val="220fb1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857680" y="2071800"/>
            <a:ext cx="435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реч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осен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книж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карто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j0232599"/>
          <p:cNvPicPr/>
          <p:nvPr/>
        </p:nvPicPr>
        <p:blipFill>
          <a:blip r:embed="rId2"/>
          <a:stretch/>
        </p:blipFill>
        <p:spPr>
          <a:xfrm>
            <a:off x="6929280" y="4286160"/>
            <a:ext cx="17398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928800" y="142920"/>
            <a:ext cx="8001000" cy="10688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Тема  пресс- кон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« Прилагательны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42920" y="1285920"/>
            <a:ext cx="9001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Calibri"/>
              </a:rPr>
              <a:t>1.На какие вопросы отвечают прилага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Calibri"/>
              </a:rPr>
              <a:t>2.Что обозначают прилага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Calibri"/>
              </a:rPr>
              <a:t>3. С какой частью речи связаны прилага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Calibri"/>
              </a:rPr>
              <a:t>4.Для чего в речи служат прилага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286000" y="214200"/>
            <a:ext cx="507204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786720" y="4714920"/>
            <a:ext cx="2071440" cy="186516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далее 5"/>
          <p:cNvSpPr/>
          <p:nvPr/>
        </p:nvSpPr>
        <p:spPr>
          <a:xfrm>
            <a:off x="6000840" y="628668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1865160" y="712800"/>
            <a:ext cx="4999320" cy="437688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возврат 2"/>
          <p:cNvSpPr/>
          <p:nvPr/>
        </p:nvSpPr>
        <p:spPr>
          <a:xfrm>
            <a:off x="8429760" y="614376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493"/>
                </a:moveTo>
                <a:lnTo>
                  <a:pt x="18090" y="7493"/>
                </a:lnTo>
                <a:lnTo>
                  <a:pt x="18090" y="12828"/>
                </a:lnTo>
                <a:cubicBezTo>
                  <a:pt x="18090" y="13751"/>
                  <a:pt x="18891" y="14482"/>
                  <a:pt x="19927" y="14482"/>
                </a:cubicBezTo>
                <a:lnTo>
                  <a:pt x="21589" y="14482"/>
                </a:lnTo>
                <a:cubicBezTo>
                  <a:pt x="22625" y="14482"/>
                  <a:pt x="23426" y="13751"/>
                  <a:pt x="23426" y="12828"/>
                </a:cubicBezTo>
                <a:lnTo>
                  <a:pt x="23426" y="7493"/>
                </a:lnTo>
                <a:lnTo>
                  <a:pt x="21589" y="7493"/>
                </a:lnTo>
                <a:lnTo>
                  <a:pt x="25097" y="3985"/>
                </a:lnTo>
                <a:lnTo>
                  <a:pt x="28770" y="7493"/>
                </a:lnTo>
                <a:lnTo>
                  <a:pt x="26933" y="7493"/>
                </a:lnTo>
                <a:lnTo>
                  <a:pt x="26933" y="12828"/>
                </a:lnTo>
                <a:cubicBezTo>
                  <a:pt x="26933" y="15596"/>
                  <a:pt x="24357" y="18155"/>
                  <a:pt x="21589" y="18155"/>
                </a:cubicBezTo>
                <a:lnTo>
                  <a:pt x="19927" y="18155"/>
                </a:lnTo>
                <a:cubicBezTo>
                  <a:pt x="17159" y="18155"/>
                  <a:pt x="14583" y="15596"/>
                  <a:pt x="1458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1773360" y="1316160"/>
            <a:ext cx="5554440" cy="3054240"/>
          </a:xfrm>
          <a:prstGeom prst="rect">
            <a:avLst/>
          </a:prstGeom>
          <a:ln w="0">
            <a:noFill/>
          </a:ln>
        </p:spPr>
      </p:pic>
      <p:sp>
        <p:nvSpPr>
          <p:cNvPr id="148" name="Управляющая кнопка: возврат 2"/>
          <p:cNvSpPr/>
          <p:nvPr/>
        </p:nvSpPr>
        <p:spPr>
          <a:xfrm>
            <a:off x="8429760" y="6357960"/>
            <a:ext cx="571320" cy="500040"/>
          </a:xfrm>
          <a:custGeom>
            <a:avLst/>
            <a:gdLst>
              <a:gd name="textAreaLeft" fmla="*/ 32400 w 571320"/>
              <a:gd name="textAreaRight" fmla="*/ 538920 w 5713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77" h="21600">
                <a:moveTo>
                  <a:pt x="0" y="0"/>
                </a:moveTo>
                <a:lnTo>
                  <a:pt x="24677" y="0"/>
                </a:lnTo>
                <a:lnTo>
                  <a:pt x="24677" y="21600"/>
                </a:lnTo>
                <a:lnTo>
                  <a:pt x="0" y="21600"/>
                </a:lnTo>
                <a:close/>
              </a:path>
              <a:path fill="lightenLess" w="24677" h="21600">
                <a:moveTo>
                  <a:pt x="0" y="0"/>
                </a:moveTo>
                <a:lnTo>
                  <a:pt x="24677" y="0"/>
                </a:lnTo>
                <a:lnTo>
                  <a:pt x="23277" y="1400"/>
                </a:lnTo>
                <a:lnTo>
                  <a:pt x="1400" y="1400"/>
                </a:lnTo>
                <a:close/>
              </a:path>
              <a:path fill="darken" w="24677" h="21600">
                <a:moveTo>
                  <a:pt x="24677" y="0"/>
                </a:moveTo>
                <a:lnTo>
                  <a:pt x="24677" y="21600"/>
                </a:lnTo>
                <a:lnTo>
                  <a:pt x="23277" y="20200"/>
                </a:lnTo>
                <a:lnTo>
                  <a:pt x="23277" y="1400"/>
                </a:lnTo>
                <a:close/>
              </a:path>
              <a:path fill="darkenLess" w="24677" h="21600">
                <a:moveTo>
                  <a:pt x="24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7" y="20200"/>
                </a:lnTo>
                <a:close/>
              </a:path>
              <a:path fill="lighten" w="24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7" h="21600">
                <a:moveTo>
                  <a:pt x="5332" y="7493"/>
                </a:moveTo>
                <a:lnTo>
                  <a:pt x="8840" y="7493"/>
                </a:lnTo>
                <a:lnTo>
                  <a:pt x="8840" y="12828"/>
                </a:lnTo>
                <a:cubicBezTo>
                  <a:pt x="8840" y="13751"/>
                  <a:pt x="9640" y="14482"/>
                  <a:pt x="10676" y="14482"/>
                </a:cubicBezTo>
                <a:lnTo>
                  <a:pt x="12338" y="14482"/>
                </a:lnTo>
                <a:cubicBezTo>
                  <a:pt x="13374" y="14482"/>
                  <a:pt x="14175" y="13751"/>
                  <a:pt x="14175" y="12828"/>
                </a:cubicBezTo>
                <a:lnTo>
                  <a:pt x="14175" y="7493"/>
                </a:lnTo>
                <a:lnTo>
                  <a:pt x="12338" y="7493"/>
                </a:lnTo>
                <a:lnTo>
                  <a:pt x="15846" y="3985"/>
                </a:lnTo>
                <a:lnTo>
                  <a:pt x="19519" y="7493"/>
                </a:lnTo>
                <a:lnTo>
                  <a:pt x="17682" y="7493"/>
                </a:lnTo>
                <a:lnTo>
                  <a:pt x="17682" y="12828"/>
                </a:lnTo>
                <a:cubicBezTo>
                  <a:pt x="17682" y="15596"/>
                  <a:pt x="15106" y="18155"/>
                  <a:pt x="12338" y="18155"/>
                </a:cubicBezTo>
                <a:lnTo>
                  <a:pt x="10676" y="18155"/>
                </a:lnTo>
                <a:cubicBezTo>
                  <a:pt x="7908" y="18155"/>
                  <a:pt x="5332" y="15596"/>
                  <a:pt x="5332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1274760"/>
            <a:ext cx="8051760" cy="2170080"/>
          </a:xfrm>
          <a:prstGeom prst="rect">
            <a:avLst/>
          </a:prstGeom>
          <a:ln w="0">
            <a:noFill/>
          </a:ln>
        </p:spPr>
      </p:pic>
      <p:sp>
        <p:nvSpPr>
          <p:cNvPr id="150" name="Управляющая кнопка: возврат 2"/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7493"/>
                </a:moveTo>
                <a:lnTo>
                  <a:pt x="8498" y="7493"/>
                </a:lnTo>
                <a:lnTo>
                  <a:pt x="8498" y="12828"/>
                </a:lnTo>
                <a:cubicBezTo>
                  <a:pt x="8498" y="13751"/>
                  <a:pt x="9298" y="14482"/>
                  <a:pt x="10334" y="14482"/>
                </a:cubicBezTo>
                <a:lnTo>
                  <a:pt x="11997" y="14482"/>
                </a:lnTo>
                <a:cubicBezTo>
                  <a:pt x="13032" y="14482"/>
                  <a:pt x="13833" y="13751"/>
                  <a:pt x="13833" y="12828"/>
                </a:cubicBezTo>
                <a:lnTo>
                  <a:pt x="13833" y="7493"/>
                </a:lnTo>
                <a:lnTo>
                  <a:pt x="11997" y="7493"/>
                </a:lnTo>
                <a:lnTo>
                  <a:pt x="15504" y="3985"/>
                </a:lnTo>
                <a:lnTo>
                  <a:pt x="19177" y="7493"/>
                </a:lnTo>
                <a:lnTo>
                  <a:pt x="17341" y="7493"/>
                </a:lnTo>
                <a:lnTo>
                  <a:pt x="17341" y="12828"/>
                </a:lnTo>
                <a:cubicBezTo>
                  <a:pt x="17341" y="15596"/>
                  <a:pt x="14764" y="18155"/>
                  <a:pt x="11997" y="18155"/>
                </a:cubicBezTo>
                <a:lnTo>
                  <a:pt x="10334" y="18155"/>
                </a:lnTo>
                <a:cubicBezTo>
                  <a:pt x="7566" y="18155"/>
                  <a:pt x="4990" y="15596"/>
                  <a:pt x="4990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1006560"/>
            <a:ext cx="7694640" cy="49435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возврат 2"/>
          <p:cNvSpPr/>
          <p:nvPr/>
        </p:nvSpPr>
        <p:spPr>
          <a:xfrm>
            <a:off x="8072280" y="6215040"/>
            <a:ext cx="785880" cy="642960"/>
          </a:xfrm>
          <a:custGeom>
            <a:avLst/>
            <a:gdLst>
              <a:gd name="textAreaLeft" fmla="*/ 41400 w 785880"/>
              <a:gd name="textAreaRight" fmla="*/ 744480 w 7858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6399" h="21600">
                <a:moveTo>
                  <a:pt x="0" y="0"/>
                </a:moveTo>
                <a:lnTo>
                  <a:pt x="26399" y="0"/>
                </a:lnTo>
                <a:lnTo>
                  <a:pt x="26399" y="21600"/>
                </a:lnTo>
                <a:lnTo>
                  <a:pt x="0" y="21600"/>
                </a:lnTo>
                <a:close/>
              </a:path>
              <a:path fill="lightenLess" w="26399" h="21600">
                <a:moveTo>
                  <a:pt x="0" y="0"/>
                </a:moveTo>
                <a:lnTo>
                  <a:pt x="26399" y="0"/>
                </a:lnTo>
                <a:lnTo>
                  <a:pt x="24999" y="1400"/>
                </a:lnTo>
                <a:lnTo>
                  <a:pt x="1400" y="1400"/>
                </a:lnTo>
                <a:close/>
              </a:path>
              <a:path fill="darken" w="26399" h="21600">
                <a:moveTo>
                  <a:pt x="26399" y="0"/>
                </a:moveTo>
                <a:lnTo>
                  <a:pt x="26399" y="21600"/>
                </a:lnTo>
                <a:lnTo>
                  <a:pt x="24999" y="20200"/>
                </a:lnTo>
                <a:lnTo>
                  <a:pt x="24999" y="1400"/>
                </a:lnTo>
                <a:close/>
              </a:path>
              <a:path fill="darkenLess" w="26399" h="21600">
                <a:moveTo>
                  <a:pt x="26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9" y="20200"/>
                </a:lnTo>
                <a:close/>
              </a:path>
              <a:path fill="lighten" w="26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9" h="21600">
                <a:moveTo>
                  <a:pt x="6193" y="7493"/>
                </a:moveTo>
                <a:lnTo>
                  <a:pt x="9700" y="7493"/>
                </a:lnTo>
                <a:lnTo>
                  <a:pt x="9700" y="12828"/>
                </a:lnTo>
                <a:cubicBezTo>
                  <a:pt x="9700" y="13751"/>
                  <a:pt x="10501" y="14482"/>
                  <a:pt x="11537" y="14482"/>
                </a:cubicBezTo>
                <a:lnTo>
                  <a:pt x="13199" y="14482"/>
                </a:lnTo>
                <a:cubicBezTo>
                  <a:pt x="14235" y="14482"/>
                  <a:pt x="15036" y="13751"/>
                  <a:pt x="15036" y="12828"/>
                </a:cubicBezTo>
                <a:lnTo>
                  <a:pt x="15036" y="7493"/>
                </a:lnTo>
                <a:lnTo>
                  <a:pt x="13199" y="7493"/>
                </a:lnTo>
                <a:lnTo>
                  <a:pt x="16707" y="3985"/>
                </a:lnTo>
                <a:lnTo>
                  <a:pt x="20380" y="7493"/>
                </a:lnTo>
                <a:lnTo>
                  <a:pt x="18543" y="7493"/>
                </a:lnTo>
                <a:lnTo>
                  <a:pt x="18543" y="12828"/>
                </a:lnTo>
                <a:cubicBezTo>
                  <a:pt x="18543" y="15596"/>
                  <a:pt x="15967" y="18155"/>
                  <a:pt x="13199" y="18155"/>
                </a:cubicBezTo>
                <a:lnTo>
                  <a:pt x="11537" y="18155"/>
                </a:lnTo>
                <a:cubicBezTo>
                  <a:pt x="8769" y="18155"/>
                  <a:pt x="6193" y="15596"/>
                  <a:pt x="619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Прямоугольник 1" descr=""/>
          <p:cNvPicPr/>
          <p:nvPr/>
        </p:nvPicPr>
        <p:blipFill>
          <a:blip r:embed="rId2"/>
          <a:stretch/>
        </p:blipFill>
        <p:spPr>
          <a:xfrm>
            <a:off x="-92160" y="-201600"/>
            <a:ext cx="9328320" cy="209700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2" descr=""/>
          <p:cNvPicPr/>
          <p:nvPr/>
        </p:nvPicPr>
        <p:blipFill>
          <a:blip r:embed="rId3"/>
          <a:stretch/>
        </p:blipFill>
        <p:spPr>
          <a:xfrm>
            <a:off x="79200" y="207792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" descr=""/>
          <p:cNvPicPr/>
          <p:nvPr/>
        </p:nvPicPr>
        <p:blipFill>
          <a:blip r:embed="rId4"/>
          <a:stretch/>
        </p:blipFill>
        <p:spPr>
          <a:xfrm>
            <a:off x="-92160" y="1511280"/>
            <a:ext cx="9328320" cy="209700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5" descr=""/>
          <p:cNvPicPr/>
          <p:nvPr/>
        </p:nvPicPr>
        <p:blipFill>
          <a:blip r:embed="rId5"/>
          <a:stretch/>
        </p:blipFill>
        <p:spPr>
          <a:xfrm>
            <a:off x="-92160" y="3181320"/>
            <a:ext cx="9328320" cy="2139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1285920" y="6215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Прямоугольник 8" descr=""/>
          <p:cNvPicPr/>
          <p:nvPr/>
        </p:nvPicPr>
        <p:blipFill>
          <a:blip r:embed="rId6"/>
          <a:stretch/>
        </p:blipFill>
        <p:spPr>
          <a:xfrm>
            <a:off x="-115920" y="4998960"/>
            <a:ext cx="9509040" cy="1511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0" y="0"/>
            <a:ext cx="78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20fb1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142920" y="1714680"/>
            <a:ext cx="64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46c0a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0" y="3500280"/>
            <a:ext cx="78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0" y="521496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j0214098.wav" descr=""/>
          <p:cNvPicPr/>
          <p:nvPr/>
        </p:nvPicPr>
        <p:blipFill>
          <a:blip r:embed="rId7"/>
          <a:stretch/>
        </p:blipFill>
        <p:spPr>
          <a:xfrm>
            <a:off x="85010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4745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344664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Line 8"/>
          <p:cNvSpPr/>
          <p:nvPr/>
        </p:nvSpPr>
        <p:spPr>
          <a:xfrm>
            <a:off x="2895480" y="198108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819520" y="5335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143240" y="571680"/>
            <a:ext cx="259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рбу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>
            <a:off x="5928840" y="714240"/>
            <a:ext cx="35748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308880"/>
            <a:ext cx="7143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  <a:ea typeface="Times New Roman"/>
              </a:rPr>
              <a:t>Великий, могучий, свободный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  <a:ea typeface="Times New Roman"/>
              </a:rPr>
              <a:t>Надежды и силы родник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  <a:ea typeface="Times New Roman"/>
              </a:rPr>
              <a:t>Тебе посвящаем урок мы сегодн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  <a:ea typeface="Times New Roman"/>
              </a:rPr>
              <a:t>Родной наш, правдивый и гордый язык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rav3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43800" y="4286160"/>
            <a:ext cx="235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374120" y="1285920"/>
            <a:ext cx="67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Arial"/>
              </a:rPr>
              <a:t>Арбузный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3429000" y="3571920"/>
            <a:ext cx="1911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1704240" y="471600"/>
            <a:ext cx="60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. 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Р </a:t>
            </a: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. 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БЕ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1981080" y="2192400"/>
            <a:ext cx="4800600" cy="4251240"/>
          </a:xfrm>
          <a:prstGeom prst="rect">
            <a:avLst/>
          </a:prstGeom>
          <a:ln w="0">
            <a:noFill/>
          </a:ln>
        </p:spPr>
      </p:pic>
      <p:sp>
        <p:nvSpPr>
          <p:cNvPr id="173" name="Line 6"/>
          <p:cNvSpPr/>
          <p:nvPr/>
        </p:nvSpPr>
        <p:spPr>
          <a:xfrm>
            <a:off x="3124080" y="1905120"/>
            <a:ext cx="838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4952880" y="190512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714760" y="57168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4648320" y="6094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6933960" y="2286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603360" y="1357200"/>
            <a:ext cx="828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46c0a"/>
                </a:solidFill>
                <a:latin typeface="Arial"/>
              </a:rPr>
              <a:t>вороб</a:t>
            </a:r>
            <a:r>
              <a:rPr b="1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1" lang="en-US" sz="9600" spc="-1" strike="noStrike">
                <a:solidFill>
                  <a:srgbClr val="e46c0a"/>
                </a:solidFill>
                <a:latin typeface="Arial"/>
              </a:rPr>
              <a:t>иный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26874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24640" cy="4724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928880" y="380880"/>
            <a:ext cx="65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К  </a:t>
            </a: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  ПУС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2743200" y="5335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 flipH="1">
            <a:off x="533376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666880" y="167652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1000080" y="100008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030a0"/>
                </a:solidFill>
                <a:latin typeface="Arial"/>
              </a:rPr>
              <a:t>капус</a:t>
            </a:r>
            <a:r>
              <a:rPr b="1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т</a:t>
            </a:r>
            <a:r>
              <a:rPr b="1" lang="en-US" sz="9600" spc="-1" strike="noStrike">
                <a:solidFill>
                  <a:srgbClr val="7030a0"/>
                </a:solidFill>
                <a:latin typeface="Arial"/>
              </a:rPr>
              <a:t>ный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1"/>
          <a:stretch/>
        </p:blipFill>
        <p:spPr>
          <a:xfrm>
            <a:off x="3071880" y="314316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2286000" y="2214720"/>
            <a:ext cx="3408480" cy="4338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2000160" y="285840"/>
            <a:ext cx="61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ЗА  </a:t>
            </a: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H="1">
            <a:off x="3071520" y="285840"/>
            <a:ext cx="15228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571920" y="1429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3300"/>
                </a:solidFill>
                <a:uFillTx/>
                <a:latin typeface="Calibri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586960" y="1357200"/>
            <a:ext cx="472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чий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3643200" y="3571920"/>
            <a:ext cx="2357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5029200" cy="483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143000" y="28584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ДВЕД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 flipH="1">
            <a:off x="5000400" y="21420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57280" y="35712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3300"/>
                </a:solidFill>
                <a:uFillTx/>
                <a:latin typeface="Calibri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1374120" y="1000080"/>
            <a:ext cx="666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медвежий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2857680" y="3071880"/>
            <a:ext cx="3429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600200" y="196200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5715000" y="37339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581280" y="5335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alibri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428920" y="42876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М </a:t>
            </a:r>
            <a:r>
              <a:rPr b="1" lang="en-US" sz="96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РО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 flipH="1">
            <a:off x="5638680" y="38088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581280" y="167652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t0.gstatic.com/images?q=tbn:caEEGGgakeCNQM:http://www.infosite.by/upload/iblock/eee/kvn_redakto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6720" y="1571760"/>
            <a:ext cx="170172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t2.gstatic.com/images?q=tbn:a3O2PKS7e_wDCM:http://wallpaper.zoda.ru/bd/2006/11/05/e199f3ba12c00789a8ee49f96c4d816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7120" y="928800"/>
            <a:ext cx="1233720" cy="92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t0.gstatic.com/images?q=tbn:qi-EWlaf0lqrsM:http://www.terehov.ru/press/meie-maa-big-text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86800" y="4714920"/>
            <a:ext cx="100944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t0.gstatic.com/images?q=tbn:NlaEWQbDEXuktM:http://2.bp.blogspot.com/_vYPIDwOMhm4/R0_hGVpX97I/AAAAAAAAFiY/ECwsZu2qZyg/s1600-R/MakovskijVE_000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43240" y="4929120"/>
            <a:ext cx="876600" cy="13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t3.gstatic.com/images?q=tbn:-NZbbzCJczThBM:http://www.pravoslavie.ru/sas/image/100178/17828.b.jpg"/>
          <p:cNvPicPr/>
          <p:nvPr/>
        </p:nvPicPr>
        <p:blipFill>
          <a:blip r:embed="rId9"/>
          <a:stretch/>
        </p:blipFill>
        <p:spPr>
          <a:xfrm>
            <a:off x="3500280" y="928800"/>
            <a:ext cx="1571760" cy="1176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2162160" y="142920"/>
            <a:ext cx="4368600" cy="7034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0fb1"/>
                </a:solidFill>
                <a:latin typeface="Calibri"/>
              </a:rPr>
              <a:t>Редакция журн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0" y="2357280"/>
            <a:ext cx="192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Главный реда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142920" y="400068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Пресс- секрета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1857240" y="26431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Художники-дизайн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5286240" y="414324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Корректорская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13"/>
          <p:cNvSpPr/>
          <p:nvPr/>
        </p:nvSpPr>
        <p:spPr>
          <a:xfrm>
            <a:off x="714240" y="1928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4"/>
          <p:cNvSpPr/>
          <p:nvPr/>
        </p:nvSpPr>
        <p:spPr>
          <a:xfrm>
            <a:off x="642960" y="32860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5"/>
          <p:cNvSpPr/>
          <p:nvPr/>
        </p:nvSpPr>
        <p:spPr>
          <a:xfrm>
            <a:off x="4071960" y="22860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6"/>
          <p:cNvSpPr/>
          <p:nvPr/>
        </p:nvSpPr>
        <p:spPr>
          <a:xfrm>
            <a:off x="7643880" y="3500280"/>
            <a:ext cx="357120" cy="5716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3225600" y="364320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журнал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15120" y="521496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0fb1"/>
                </a:solidFill>
                <a:latin typeface="Calibri"/>
              </a:rPr>
              <a:t>фотокорреспонд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24"/>
          <p:cNvSpPr/>
          <p:nvPr/>
        </p:nvSpPr>
        <p:spPr>
          <a:xfrm>
            <a:off x="1643040" y="46432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25"/>
          <p:cNvSpPr/>
          <p:nvPr/>
        </p:nvSpPr>
        <p:spPr>
          <a:xfrm>
            <a:off x="4429080" y="435780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люди и фотоаппараты"/>
          <p:cNvPicPr/>
          <p:nvPr/>
        </p:nvPicPr>
        <p:blipFill>
          <a:blip r:embed="rId10"/>
          <a:stretch/>
        </p:blipFill>
        <p:spPr>
          <a:xfrm>
            <a:off x="1000080" y="5643720"/>
            <a:ext cx="1571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2"/>
          <p:cNvSpPr/>
          <p:nvPr/>
        </p:nvSpPr>
        <p:spPr>
          <a:xfrm>
            <a:off x="1517400" y="1143000"/>
            <a:ext cx="679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морозный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media3.picsearch.com/is?s7PwzOtGfWY2yzvbcxWAXb1hMk25oLqXN7FoaLOv4WY"/>
          <p:cNvPicPr/>
          <p:nvPr/>
        </p:nvPicPr>
        <p:blipFill>
          <a:blip r:embed="rId1"/>
          <a:stretch/>
        </p:blipFill>
        <p:spPr>
          <a:xfrm>
            <a:off x="5357880" y="3643200"/>
            <a:ext cx="1643040" cy="2516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media3.picsearch.com/is?lV5iGTd5eqxJYmRnTmrZ2M02Ot5BhlaysM_svlFeusQ"/>
          <p:cNvPicPr/>
          <p:nvPr/>
        </p:nvPicPr>
        <p:blipFill>
          <a:blip r:embed="rId2"/>
          <a:stretch/>
        </p:blipFill>
        <p:spPr>
          <a:xfrm>
            <a:off x="7143840" y="371484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media2.picsearch.com/is?_qAxgJz83YITItHHwmabhAOGYH0Jjk8Gc8tk4_MuGJo"/>
          <p:cNvPicPr/>
          <p:nvPr/>
        </p:nvPicPr>
        <p:blipFill>
          <a:blip r:embed="rId3"/>
          <a:stretch/>
        </p:blipFill>
        <p:spPr>
          <a:xfrm>
            <a:off x="6000840" y="571680"/>
            <a:ext cx="2887560" cy="2143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"/>
          <p:cNvSpPr/>
          <p:nvPr/>
        </p:nvSpPr>
        <p:spPr>
          <a:xfrm>
            <a:off x="357120" y="592200"/>
            <a:ext cx="578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20fb1"/>
                </a:solidFill>
                <a:uFillTx/>
                <a:latin typeface="Arial"/>
                <a:ea typeface="Times New Roman"/>
              </a:rPr>
              <a:t>Отгадайте предм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Он круглой формы, белого цвета, с кругленькими глазками, похожими на угольки, с большим  длинным носом, на голове железное ведр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361880" y="5929200"/>
            <a:ext cx="6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0fb1"/>
                </a:solidFill>
                <a:latin typeface="Calibri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928880" y="585792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2291400" y="5929200"/>
            <a:ext cx="14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0fb1"/>
                </a:solidFill>
                <a:latin typeface="Calibri"/>
              </a:rPr>
              <a:t>г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"/>
          <p:cNvSpPr/>
          <p:nvPr/>
        </p:nvSpPr>
        <p:spPr>
          <a:xfrm>
            <a:off x="571680" y="1500120"/>
            <a:ext cx="7929360" cy="210492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fb1"/>
                </a:solidFill>
                <a:latin typeface="Calibri"/>
              </a:rPr>
              <a:t>Хрупкие, маленькие, нежные, красивые,  холодные, легкие,  кружев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fb1"/>
                </a:solidFill>
                <a:latin typeface="Calibri"/>
              </a:rPr>
              <a:t>тонкие ,воздушные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1"/>
          <a:stretch/>
        </p:blipFill>
        <p:spPr>
          <a:xfrm>
            <a:off x="500040" y="4071960"/>
            <a:ext cx="2309760" cy="2351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d2cb88548b80da1cbb645576ccc50fd8"/>
          <p:cNvPicPr/>
          <p:nvPr/>
        </p:nvPicPr>
        <p:blipFill>
          <a:blip r:embed="rId2"/>
          <a:stretch/>
        </p:blipFill>
        <p:spPr>
          <a:xfrm>
            <a:off x="3286080" y="5072040"/>
            <a:ext cx="2009880" cy="1500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3"/>
          <a:stretch/>
        </p:blipFill>
        <p:spPr>
          <a:xfrm>
            <a:off x="6786720" y="3929040"/>
            <a:ext cx="2071440" cy="21099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0"/>
          <p:cNvSpPr/>
          <p:nvPr/>
        </p:nvSpPr>
        <p:spPr>
          <a:xfrm>
            <a:off x="5005800" y="592920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5572080" y="59292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5929200" y="5929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жи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Прямоугольник 9" descr=""/>
          <p:cNvPicPr/>
          <p:nvPr/>
        </p:nvPicPr>
        <p:blipFill>
          <a:blip r:embed="rId4"/>
          <a:stretch/>
        </p:blipFill>
        <p:spPr>
          <a:xfrm>
            <a:off x="1895400" y="-96840"/>
            <a:ext cx="49262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714240" y="285840"/>
            <a:ext cx="7000920" cy="228852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Белый,  холодный, пушистый , мокрый, колючий , липкий ,  легкий , невесомый,  тяжёлы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Documents and Settings\323\Рабочий стол\Портфель\Рисунки,анимашки\большие анимашки\84838.gif"/>
          <p:cNvPicPr/>
          <p:nvPr/>
        </p:nvPicPr>
        <p:blipFill>
          <a:blip r:embed="rId2"/>
          <a:stretch/>
        </p:blipFill>
        <p:spPr>
          <a:xfrm>
            <a:off x="4143240" y="3286080"/>
            <a:ext cx="2301840" cy="3357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323\Рабочий стол\Портфель\Рисунки,анимашки\большие анимашки\75798.gif"/>
          <p:cNvPicPr/>
          <p:nvPr/>
        </p:nvPicPr>
        <p:blipFill>
          <a:blip r:embed="rId3"/>
          <a:stretch/>
        </p:blipFill>
        <p:spPr>
          <a:xfrm>
            <a:off x="6572160" y="3214800"/>
            <a:ext cx="2405160" cy="3357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://brles.zapoved.ru/foto/55969c27b891034928fc4334233227c3.jpg"/>
          <p:cNvPicPr/>
          <p:nvPr/>
        </p:nvPicPr>
        <p:blipFill>
          <a:blip r:embed="rId4"/>
          <a:stretch/>
        </p:blipFill>
        <p:spPr>
          <a:xfrm>
            <a:off x="285840" y="3357720"/>
            <a:ext cx="3598920" cy="33415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7358040" y="221472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20fb1"/>
                </a:solidFill>
                <a:latin typeface="Calibri"/>
              </a:rPr>
              <a:t>сне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negoviki_pesnya.wmv" descr=""/>
          <p:cNvPicPr/>
          <p:nvPr/>
        </p:nvPicPr>
        <p:blipFill>
          <a:blip r:embed="rId1"/>
          <a:stretch/>
        </p:blipFill>
        <p:spPr>
          <a:xfrm>
            <a:off x="1571760" y="114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4" descr=""/>
          <p:cNvPicPr/>
          <p:nvPr/>
        </p:nvPicPr>
        <p:blipFill>
          <a:blip r:embed="rId2"/>
          <a:stretch/>
        </p:blipFill>
        <p:spPr>
          <a:xfrm>
            <a:off x="2170080" y="42840"/>
            <a:ext cx="5157720" cy="177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d2cb88548b80da1cbb645576ccc50fd8"/>
          <p:cNvPicPr/>
          <p:nvPr/>
        </p:nvPicPr>
        <p:blipFill>
          <a:blip r:embed="rId3"/>
          <a:stretch/>
        </p:blipFill>
        <p:spPr>
          <a:xfrm>
            <a:off x="142920" y="357120"/>
            <a:ext cx="134136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7429680" y="214200"/>
            <a:ext cx="1149120" cy="857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d2cb88548b80da1cbb645576ccc50fd8"/>
          <p:cNvPicPr/>
          <p:nvPr/>
        </p:nvPicPr>
        <p:blipFill>
          <a:blip r:embed="rId5"/>
          <a:stretch/>
        </p:blipFill>
        <p:spPr>
          <a:xfrm>
            <a:off x="7612200" y="3500280"/>
            <a:ext cx="15318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1500120" y="5715000"/>
            <a:ext cx="1341360" cy="100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6" descr="d2cb88548b80da1cbb645576ccc50fd8"/>
          <p:cNvPicPr/>
          <p:nvPr/>
        </p:nvPicPr>
        <p:blipFill>
          <a:blip r:embed="rId7"/>
          <a:stretch/>
        </p:blipFill>
        <p:spPr>
          <a:xfrm>
            <a:off x="0" y="4500720"/>
            <a:ext cx="1341360" cy="1000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6" descr="d2cb88548b80da1cbb645576ccc50fd8"/>
          <p:cNvPicPr/>
          <p:nvPr/>
        </p:nvPicPr>
        <p:blipFill>
          <a:blip r:embed="rId8"/>
          <a:stretch/>
        </p:blipFill>
        <p:spPr>
          <a:xfrm>
            <a:off x="0" y="2428920"/>
            <a:ext cx="1341360" cy="1000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d2cb88548b80da1cbb645576ccc50fd8"/>
          <p:cNvPicPr/>
          <p:nvPr/>
        </p:nvPicPr>
        <p:blipFill>
          <a:blip r:embed="rId9"/>
          <a:stretch/>
        </p:blipFill>
        <p:spPr>
          <a:xfrm>
            <a:off x="4500720" y="5857920"/>
            <a:ext cx="1341360" cy="1000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6" descr="d2cb88548b80da1cbb645576ccc50fd8"/>
          <p:cNvPicPr/>
          <p:nvPr/>
        </p:nvPicPr>
        <p:blipFill>
          <a:blip r:embed="rId10"/>
          <a:stretch/>
        </p:blipFill>
        <p:spPr>
          <a:xfrm>
            <a:off x="7358040" y="5857920"/>
            <a:ext cx="1341360" cy="100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d2cb88548b80da1cbb645576ccc50fd8"/>
          <p:cNvPicPr/>
          <p:nvPr/>
        </p:nvPicPr>
        <p:blipFill>
          <a:blip r:embed="rId11"/>
          <a:stretch/>
        </p:blipFill>
        <p:spPr>
          <a:xfrm>
            <a:off x="8001000" y="1500120"/>
            <a:ext cx="1341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5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ru.soft\Pictures\NVE00004.png"/>
          <p:cNvPicPr/>
          <p:nvPr/>
        </p:nvPicPr>
        <p:blipFill>
          <a:blip r:embed="rId1"/>
          <a:stretch/>
        </p:blipFill>
        <p:spPr>
          <a:xfrm>
            <a:off x="285840" y="14292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238" name="11-Concerto F-moll Op.8 No.4 RV 297 _Winter_ - Largo.mp3" descr=""/>
          <p:cNvPicPr/>
          <p:nvPr/>
        </p:nvPicPr>
        <p:blipFill>
          <a:blip r:embed="rId2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ru.soft\Pictures\NVE00001.png"/>
          <p:cNvPicPr/>
          <p:nvPr/>
        </p:nvPicPr>
        <p:blipFill>
          <a:blip r:embed="rId2"/>
          <a:stretch/>
        </p:blipFill>
        <p:spPr>
          <a:xfrm>
            <a:off x="285840" y="177840"/>
            <a:ext cx="8643960" cy="64832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ru.soft\Pictures\NVE00007.png"/>
          <p:cNvPicPr/>
          <p:nvPr/>
        </p:nvPicPr>
        <p:blipFill>
          <a:blip r:embed="rId1"/>
          <a:stretch/>
        </p:blipFill>
        <p:spPr>
          <a:xfrm>
            <a:off x="285840" y="125280"/>
            <a:ext cx="8691480" cy="651852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ru.soft\Pictures\NVE00006.png"/>
          <p:cNvPicPr/>
          <p:nvPr/>
        </p:nvPicPr>
        <p:blipFill>
          <a:blip r:embed="rId1"/>
          <a:stretch/>
        </p:blipFill>
        <p:spPr>
          <a:xfrm>
            <a:off x="285840" y="142920"/>
            <a:ext cx="8715240" cy="65372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журн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Хочу всё знать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0076"/>
          <p:cNvPicPr/>
          <p:nvPr/>
        </p:nvPicPr>
        <p:blipFill>
          <a:blip r:embed="rId1"/>
          <a:stretch/>
        </p:blipFill>
        <p:spPr>
          <a:xfrm>
            <a:off x="4791240" y="3357720"/>
            <a:ext cx="2519280" cy="3122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232988"/>
          <p:cNvPicPr/>
          <p:nvPr/>
        </p:nvPicPr>
        <p:blipFill>
          <a:blip r:embed="rId2"/>
          <a:stretch/>
        </p:blipFill>
        <p:spPr>
          <a:xfrm>
            <a:off x="285840" y="285840"/>
            <a:ext cx="1844640" cy="1832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07"/>
          <p:cNvPicPr/>
          <p:nvPr/>
        </p:nvPicPr>
        <p:blipFill>
          <a:blip r:embed="rId3"/>
          <a:stretch/>
        </p:blipFill>
        <p:spPr>
          <a:xfrm>
            <a:off x="785880" y="4214880"/>
            <a:ext cx="20718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ru.soft\Pictures\NVE00005.png"/>
          <p:cNvPicPr/>
          <p:nvPr/>
        </p:nvPicPr>
        <p:blipFill>
          <a:blip r:embed="rId1"/>
          <a:stretch/>
        </p:blipFill>
        <p:spPr>
          <a:xfrm>
            <a:off x="357120" y="142920"/>
            <a:ext cx="8501040" cy="63752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ru.soft\Pictures\NVE00002.png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246" name="11-Concerto F-moll Op.8 No.4 RV 297 _Winter_ - Largo.mp3" descr=""/>
          <p:cNvPicPr/>
          <p:nvPr/>
        </p:nvPicPr>
        <p:blipFill>
          <a:blip r:embed="rId3"/>
          <a:stretch/>
        </p:blipFill>
        <p:spPr>
          <a:xfrm>
            <a:off x="8429760" y="578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38870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2"/>
          <p:cNvSpPr/>
          <p:nvPr/>
        </p:nvSpPr>
        <p:spPr>
          <a:xfrm>
            <a:off x="1928880" y="1857240"/>
            <a:ext cx="500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428760" y="1000080"/>
            <a:ext cx="8358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к красив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зимни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лес! Кругом  бело. Деревья укутались в 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теплы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шубы и шали. На солнце искрится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серебристый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г. Лес стоит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тихи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торжествен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2442600" y="142920"/>
            <a:ext cx="43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Arial"/>
              </a:rPr>
              <a:t>Зимний ле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5" descr="Анатолий Фролов: Зимы хозяин: ПТИЦЫ: Canon EOS 350D Rebel XT: Canon EF 75-300mm f/4-5.6 III"/>
          <p:cNvPicPr/>
          <p:nvPr/>
        </p:nvPicPr>
        <p:blipFill>
          <a:blip r:embed="rId1"/>
          <a:stretch/>
        </p:blipFill>
        <p:spPr>
          <a:xfrm>
            <a:off x="428760" y="142920"/>
            <a:ext cx="3857400" cy="3543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lick?url=http%3A%2F%2Fkhustochka"/>
          <p:cNvPicPr/>
          <p:nvPr/>
        </p:nvPicPr>
        <p:blipFill>
          <a:blip r:embed="rId2"/>
          <a:stretch/>
        </p:blipFill>
        <p:spPr>
          <a:xfrm>
            <a:off x="4429080" y="3714840"/>
            <a:ext cx="4322880" cy="288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turizm.lib.ru/img/c/chuksin_n/local_t/lo_14.jpg"/>
          <p:cNvPicPr/>
          <p:nvPr/>
        </p:nvPicPr>
        <p:blipFill>
          <a:blip r:embed="rId3"/>
          <a:stretch/>
        </p:blipFill>
        <p:spPr>
          <a:xfrm>
            <a:off x="4429080" y="285840"/>
            <a:ext cx="4442040" cy="3429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http://www.photoforum.ru/f/photo/000/346/346721_70.jpg"/>
          <p:cNvPicPr/>
          <p:nvPr/>
        </p:nvPicPr>
        <p:blipFill>
          <a:blip r:embed="rId4"/>
          <a:stretch/>
        </p:blipFill>
        <p:spPr>
          <a:xfrm>
            <a:off x="357120" y="3714840"/>
            <a:ext cx="3929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357120" y="1580400"/>
            <a:ext cx="8572680" cy="521208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1.Украшают, обогащают  реч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2.Дополняют, уточняют  реч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3.Помогают  описать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Times New Roman"/>
              </a:rPr>
              <a:t>предме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874160" y="285840"/>
            <a:ext cx="5717520" cy="1008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Прилагатель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2"/>
          <p:cNvSpPr/>
          <p:nvPr/>
        </p:nvSpPr>
        <p:spPr>
          <a:xfrm>
            <a:off x="826920" y="836640"/>
            <a:ext cx="741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ю подготовила Исаева Светлан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« Полесская средняя общеобразовате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Полес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405080" y="5300640"/>
            <a:ext cx="6408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йт: « Школа АБВ»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.shkola-abv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822240" y="189000"/>
            <a:ext cx="7351920" cy="1030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42920" y="1643040"/>
            <a:ext cx="8858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20f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Arial"/>
              </a:rPr>
              <a:t>Работаем вместе, друж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20f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Arial"/>
              </a:rPr>
              <a:t>Дружная работа приносит успе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20fb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0fb1"/>
                </a:solidFill>
                <a:latin typeface="Arial"/>
              </a:rPr>
              <a:t>Внимательно выслушиваем друг дру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Помни!</a:t>
            </a:r>
            <a:r>
              <a:rPr b="1" lang="en-US" sz="4400" spc="-1" strike="noStrike">
                <a:solidFill>
                  <a:srgbClr val="220fb1"/>
                </a:solidFill>
                <a:latin typeface="Arial"/>
              </a:rPr>
              <a:t> Шум в группе мешает работе</a:t>
            </a:r>
            <a:r>
              <a:rPr b="1" lang="en-US" sz="1800" spc="-1" strike="noStrike">
                <a:solidFill>
                  <a:srgbClr val="220fb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285920" y="214200"/>
            <a:ext cx="6143760" cy="52056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Подбери прилагательные- антон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785880" y="1143000"/>
            <a:ext cx="364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Широкий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Длинный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Весёлый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Твёрдый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357120" y="4143240"/>
            <a:ext cx="2928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грустный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4286160" y="4857840"/>
            <a:ext cx="20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узк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149760" y="5929200"/>
            <a:ext cx="279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короткий</a:t>
            </a: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2154240" y="5429160"/>
            <a:ext cx="211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мяг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6487920" y="4786200"/>
            <a:ext cx="23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смеш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01 -0.02361 C -0.11579 -0.02616 -0.11562 -0.02917 -0.11423 -0.03148 C -0.11354 -0.03287 -0.11215 -0.0331 -0.11128 -0.03449 C -0.11007 -0.03611 -0.10937 -0.03773 -0.10833 -0.03935 C -0.10763 -0.04028 -0.10694 -0.04098 -0.10625 -0.0419 C -0.10468 -0.04931 -0.09965 -0.05047 -0.09652 -0.05648 C -0.09566 -0.0581 -0.09548 -0.05996 -0.09461 -0.06158 C -0.0927 -0.06528 -0.08663 -0.06945 -0.08663 -0.06922 C -0.08159 -0.07986 -0.07257 -0.0926 -0.06423 -0.09815 C -0.06267 -0.10394 -0.05989 -0.10301 -0.05625 -0.10741 C -0.05069 -0.11412 -0.04496 -0.12107 -0.03958 -0.12824 C -0.03715 -0.13148 -0.03368 -0.13241 -0.0309 -0.13473 C -0.02812 -0.14005 -0.02604 -0.13935 -0.02204 -0.1426 C -0.01562 -0.14792 -0.01007 -0.15394 -0.00329 -0.15834 C 0.00035 -0.1632 0.00296 -0.16806 0.00643 -0.17269 C 0.00973 -0.18496 0.00573 -0.18056 0.01528 -0.18982 C 0.01754 -0.19861 0.01771 -0.20556 0.02205 -0.2132 C 0.02553 -0.23056 0.02118 -0.24977 0.0349 -0.26158 C 0.04271 -0.27755 0.05469 -0.29121 0.06632 -0.30209 C 0.07084 -0.30625 0.07553 -0.31551 0.08091 -0.31783 C 0.08368 -0.31898 0.08681 -0.31875 0.08976 -0.31945 C 0.09809 -0.32454 0.1099 -0.34398 0.11424 -0.35579 C 0.11563 -0.36621 0.11771 -0.37662 0.1191 -0.38704 C 0.12101 -0.41922 0.12136 -0.45162 0.11823 -0.4838 C 0.11719 -0.50463 0.11511 -0.51922 0.11129 -0.53866 C 0.10851 -0.55278 0.10834 -0.56806 0.09671 -0.57269 C 0.09046 -0.56875 0.0882 -0.56713 0.08195 -0.56088 C 0.07691 -0.55579 0.07483 -0.54792 0.06823 -0.54537 C 0.06407 -0.54144 0.06042 -0.54121 0.05539 -0.54005 C 0.0375 -0.54306 0.04497 -0.54144 0.03299 -0.54398 C 0.01563 -0.54236 0.0224 -0.5426 0.01233 -0.5426 E">
                                      <p:cBhvr>
                                        <p:cTn id="2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59 -0.1713 C 0.09584 -0.17547 0.10122 -0.18172 0.10816 -0.18426 C 0.12101 -0.18889 0.13195 -0.19699 0.14445 -0.20278 C 0.14861 -0.20463 0.15313 -0.20556 0.15712 -0.20787 C 0.17136 -0.21574 0.18542 -0.22732 0.19931 -0.23658 C 0.20729 -0.2419 0.21493 -0.24885 0.22379 -0.25093 C 0.24219 -0.25996 0.26025 -0.26968 0.27778 -0.28102 C 0.28351 -0.28473 0.31077 -0.29908 0.31788 -0.30602 C 0.33195 -0.31968 0.34514 -0.33403 0.3592 -0.34769 C 0.36233 -0.3507 0.3665 -0.35162 0.36997 -0.3544 C 0.37222 -0.35602 0.37379 -0.3588 0.37587 -0.36088 C 0.37969 -0.36459 0.38351 -0.36829 0.3875 -0.3713 C 0.39757 -0.37894 0.41025 -0.38148 0.42084 -0.3882 C 0.43125 -0.39468 0.43976 -0.40162 0.44931 -0.41042 C 0.4632 -0.42315 0.45226 -0.41736 0.46007 -0.42107 C 0.46858 -0.43241 0.4717 -0.43473 0.48264 -0.44051 C 0.48663 -0.44584 0.49167 -0.44792 0.49636 -0.45232 C 0.50573 -0.46135 0.51476 -0.46968 0.52483 -0.47709 C 0.52917 -0.48611 0.53698 -0.48727 0.54254 -0.49422 C 0.54479 -0.50023 0.54775 -0.5044 0.55035 -0.50996 C 0.55174 -0.51783 0.55313 -0.5294 0.5592 -0.53218 C 0.56302 -0.54491 0.56528 -0.55834 0.56893 -0.5713 C 0.56997 -0.57523 0.57205 -0.58959 0.57483 -0.59352 C 0.57743 -0.59746 0.58073 -0.60047 0.58368 -0.60394 C 0.59271 -0.63449 0.57622 -0.62523 0.5533 -0.62616 C 0.54931 -0.6257 0.54531 -0.62593 0.5415 -0.625 C 0.53629 -0.62385 0.53177 -0.61922 0.52674 -0.61713 C 0.52257 -0.61111 0.51389 -0.61019 0.50816 -0.60926 C 0.50347 -0.60718 0.49913 -0.60556 0.49445 -0.60394 C 0.48299 -0.59398 0.46806 -0.60093 0.45521 -0.60394 C 0.44479 -0.60278 0.44427 -0.60672 0.44636 -0.6 E">
                                      <p:cBhvr>
                                        <p:cTn id="3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95 -0.09583 C 0.18264 -0.09768 0.18681 -0.09977 0.19167 -0.10092 C 0.19861 -0.1074 0.19341 -0.10324 0.20834 -0.11018 C 0.21181 -0.1118 0.21493 -0.11481 0.21823 -0.11666 C 0.22882 -0.12268 0.24236 -0.12268 0.25348 -0.12453 C 0.26129 -0.12592 0.26841 -0.13078 0.27604 -0.1324 C 0.29688 -0.1368 0.31719 -0.14097 0.33785 -0.14676 C 0.34809 -0.15277 0.35886 -0.15578 0.3691 -0.16111 C 0.37848 -0.1662 0.38559 -0.17338 0.39375 -0.18078 C 0.3974 -0.18426 0.40191 -0.18611 0.40539 -0.18981 C 0.40834 -0.19282 0.41042 -0.19722 0.41337 -0.20023 C 0.41945 -0.20625 0.42552 -0.21065 0.43195 -0.21597 C 0.43664 -0.2199 0.43941 -0.2243 0.44462 -0.22639 C 0.45 -0.23148 0.45608 -0.23611 0.46233 -0.23819 C 0.4665 -0.23958 0.475 -0.24213 0.475 -0.2419 C 0.47969 -0.24583 0.48368 -0.24768 0.48872 -0.25 C 0.49358 -0.25578 0.49514 -0.26342 0.49948 -0.26967 C 0.50139 -0.27662 0.49983 -0.27222 0.50452 -0.28148 C 0.50521 -0.28287 0.50643 -0.28541 0.50643 -0.28518 C 0.50573 -0.29259 0.50625 -0.29768 0.50243 -0.30231 C 0.5 -0.31319 0.50348 -0.3 0.49948 -0.30879 C 0.49688 -0.31458 0.50087 -0.31111 0.4967 -0.31666 C 0.49236 -0.32245 0.48594 -0.32847 0.48004 -0.33102 C 0.47084 -0.33889 0.43907 -0.33264 0.43282 -0.3324 C 0.42865 -0.32847 0.4224 -0.3206 0.41719 -0.3206 E">
                                      <p:cBhvr>
                                        <p:cTn id="3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438 -0.11759 C 0.13629 -0.12176 0.13646 -0.12662 0.13837 -0.13056 C 0.14271 -0.13935 0.14722 -0.14676 0.15104 -0.15556 C 0.15261 -0.15903 0.154 -0.16273 0.15591 -0.16597 C 0.15764 -0.16898 0.16181 -0.17384 0.16181 -0.17361 C 0.16545 -0.18773 0.17448 -0.19861 0.18438 -0.2037 C 0.1941 -0.21435 0.20417 -0.21875 0.21667 -0.22083 C 0.2342 -0.23079 0.25191 -0.2412 0.27066 -0.2456 C 0.27431 -0.24861 0.27847 -0.25162 0.28247 -0.25347 C 0.28629 -0.25856 0.29497 -0.26597 0.3 -0.26782 C 0.30469 -0.27662 0.30104 -0.2713 0.31476 -0.27824 C 0.3217 -0.28171 0.3283 -0.28495 0.33542 -0.2875 C 0.33611 -0.28843 0.34028 -0.29352 0.34028 -0.29537 C 0.34028 -0.29722 0.33959 -0.29954 0.33837 -0.30046 C 0.3349 -0.30324 0.32309 -0.30671 0.31875 -0.30833 C 0.30868 -0.31782 0.29202 -0.31551 0.28143 -0.3162 C 0.27587 -0.31806 0.27049 -0.31921 0.26476 -0.32014 C 0.25469 -0.31921 0.24445 -0.31852 0.23438 -0.31759 C 0.23038 -0.31736 0.22743 -0.31435 0.22448 -0.31111 C 0.22361 -0.31018 0.2217 -0.30833 0.2217 -0.3081 E">
                                      <p:cBhvr>
                                        <p:cTn id="3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zhivhum.ru/wp-content/uploads/2008/05/slon-zhivhum-01.jpg"/>
          <p:cNvPicPr/>
          <p:nvPr/>
        </p:nvPicPr>
        <p:blipFill>
          <a:blip r:embed="rId1"/>
          <a:stretch/>
        </p:blipFill>
        <p:spPr>
          <a:xfrm>
            <a:off x="142920" y="142920"/>
            <a:ext cx="21430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basik.ru/images/fox_hunting/short.jpg"/>
          <p:cNvPicPr/>
          <p:nvPr/>
        </p:nvPicPr>
        <p:blipFill>
          <a:blip r:embed="rId2"/>
          <a:stretch/>
        </p:blipFill>
        <p:spPr>
          <a:xfrm>
            <a:off x="4929120" y="142920"/>
            <a:ext cx="1828800" cy="15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www.segodnya.ua/img/ui/_fac147b7430eadd15ac1ea4cf311c0f4.jpg"/>
          <p:cNvPicPr/>
          <p:nvPr/>
        </p:nvPicPr>
        <p:blipFill>
          <a:blip r:embed="rId3"/>
          <a:stretch/>
        </p:blipFill>
        <p:spPr>
          <a:xfrm>
            <a:off x="142920" y="1785960"/>
            <a:ext cx="2160720" cy="16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t0.gstatic.com/images?q=tbn:U7T8IlZbrspWBM"/>
          <p:cNvPicPr/>
          <p:nvPr/>
        </p:nvPicPr>
        <p:blipFill>
          <a:blip r:embed="rId4"/>
          <a:stretch/>
        </p:blipFill>
        <p:spPr>
          <a:xfrm>
            <a:off x="4929120" y="1785960"/>
            <a:ext cx="1571760" cy="1996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img1.liveinternet.ru/images/attach/c/1/48/810/48810407_1253205818_baba_yaga.jpg"/>
          <p:cNvPicPr/>
          <p:nvPr/>
        </p:nvPicPr>
        <p:blipFill>
          <a:blip r:embed="rId5"/>
          <a:stretch/>
        </p:blipFill>
        <p:spPr>
          <a:xfrm>
            <a:off x="4857840" y="4000680"/>
            <a:ext cx="2195280" cy="178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ttp://img1.liveinternet.ru/images/attach/c/1/51/461/51461575_1258819875_1257222270_41903249_1238590119_2ivan.jpg"/>
          <p:cNvPicPr/>
          <p:nvPr/>
        </p:nvPicPr>
        <p:blipFill>
          <a:blip r:embed="rId6"/>
          <a:stretch/>
        </p:blipFill>
        <p:spPr>
          <a:xfrm>
            <a:off x="142920" y="3643200"/>
            <a:ext cx="2000160" cy="1770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2357280" y="3571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fb1"/>
                </a:solidFill>
                <a:latin typeface="Calibri"/>
              </a:rPr>
              <a:t>боль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214880" y="35712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fb1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220fb1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6786720" y="35712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fb1"/>
                </a:solidFill>
                <a:latin typeface="Calibri"/>
              </a:rPr>
              <a:t>малень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8715240" y="285840"/>
            <a:ext cx="5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0fb1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2434320" y="25002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весё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4218840" y="257184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,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6793200" y="2571840"/>
            <a:ext cx="212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груст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222280" y="442908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добр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4214880" y="44290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7434000" y="4357800"/>
            <a:ext cx="11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0fb1"/>
                </a:solidFill>
                <a:latin typeface="Calibri"/>
              </a:rPr>
              <a:t>зл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9720" y="5786280"/>
            <a:ext cx="209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Добро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1936800" y="5786280"/>
            <a:ext cx="31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0fb1"/>
                </a:solidFill>
                <a:latin typeface="Calibri"/>
              </a:rPr>
              <a:t>слово  леч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5362920" y="5857920"/>
            <a:ext cx="119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зл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6927480" y="57862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0fb1"/>
                </a:solidFill>
                <a:latin typeface="Calibri"/>
              </a:rPr>
              <a:t>калеч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85840" y="1357200"/>
          <a:ext cx="5214960" cy="2438640"/>
        </p:xfrm>
        <a:graphic>
          <a:graphicData uri="http://schemas.openxmlformats.org/drawingml/2006/table">
            <a:tbl>
              <a:tblPr/>
              <a:tblGrid>
                <a:gridCol w="5214960"/>
              </a:tblGrid>
              <a:tr h="67046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20fb1"/>
                          </a:solidFill>
                          <a:latin typeface="Times New Roman"/>
                          <a:ea typeface="Times New Roman"/>
                        </a:rPr>
                        <a:t>большой, огромный,                               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рный, надёжный, </a:t>
                      </a:r>
                      <a:r>
                        <a:rPr b="1" lang="en-US" sz="4000" spc="-1" strike="noStrike">
                          <a:solidFill>
                            <a:srgbClr val="220fb1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обрый , ласковый,                                     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горячий, жаркий</a:t>
                      </a:r>
                      <a:r>
                        <a:rPr b="0" lang="en-US" sz="40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,         </a:t>
                      </a:r>
                      <a:r>
                        <a:rPr b="1" lang="en-US" sz="12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3"/>
          <p:cNvSpPr/>
          <p:nvPr/>
        </p:nvSpPr>
        <p:spPr>
          <a:xfrm>
            <a:off x="222120" y="442908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велики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51920" y="542916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пре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214800" y="45007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не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223800" y="550080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зной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6083280" y="507204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моро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000160" y="357120"/>
            <a:ext cx="5500800" cy="7034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Calibri"/>
              </a:rPr>
              <a:t>Подбери синони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59 -0.01018 C 0.18767 -0.01782 0.18559 -0.01319 0.19444 -0.01805 C 0.20364 -0.02314 0.21215 -0.02569 0.22187 -0.02708 C 0.2342 -0.03287 0.24722 -0.03726 0.26007 -0.03889 C 0.27552 -0.04606 0.29219 -0.04745 0.30816 -0.05208 C 0.33194 -0.05902 0.35555 -0.06597 0.37969 -0.07037 C 0.41562 -0.07685 0.45139 -0.08009 0.48663 -0.09259 C 0.49201 -0.09722 0.49982 -0.09976 0.50625 -0.10162 C 0.51371 -0.10926 0.53472 -0.11921 0.54444 -0.12268 C 0.55087 -0.12801 0.55781 -0.12963 0.5651 -0.13171 C 0.57239 -0.13564 0.5809 -0.14004 0.5875 -0.14606 C 0.59618 -0.15393 0.58333 -0.14629 0.59548 -0.15254 C 0.60295 -0.16342 0.61996 -0.17384 0.63073 -0.17754 C 0.64045 -0.18773 0.65173 -0.19375 0.66215 -0.20231 C 0.67292 -0.21111 0.68264 -0.22176 0.69149 -0.23379 C 0.69705 -0.24143 0.69948 -0.25416 0.70226 -0.26365 C 0.70451 -0.27176 0.70885 -0.27847 0.71215 -0.28588 C 0.71684 -0.29606 0.72031 -0.30787 0.72378 -0.31875 C 0.72656 -0.32731 0.73732 -0.32546 0.74253 -0.33171 C 0.74201 -0.34583 0.74288 -0.36782 0.73958 -0.38264 C 0.73837 -0.39976 0.73611 -0.41481 0.73177 -0.43101 C 0.73073 -0.43495 0.73055 -0.43935 0.72882 -0.44282 C 0.72795 -0.44467 0.72222 -0.44629 0.72083 -0.44676 C 0.71128 -0.44583 0.70278 -0.44421 0.6934 -0.44282 C 0.67535 -0.43495 0.65642 -0.43148 0.6375 -0.42986 C 0.61094 -0.43078 0.6092 -0.42986 0.59149 -0.43495 C 0.58698 -0.44421 0.57292 -0.44791 0.5651 -0.45069 C 0.56232 -0.45416 0.56059 -0.45764 0.5592 -0.4625 C 0.55851 -0.46504 0.55712 -0.47037 0.55712 -0.47014 C 0.55607 -0.4699 0.55486 -0.4699 0.55417 -0.46898 C 0.55347 -0.46805 0.55382 -0.4662 0.5533 -0.46504 C 0.55173 -0.46157 0.54635 -0.46041 0.54635 -0.45601 E">
                                      <p:cBhvr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98 -0.00463 C 0.17934 -0.00764 0.19635 -0.00787 0.21389 -0.00857 C 0.26406 -0.01459 0.3118 -0.03658 0.35902 -0.05834 C 0.36892 -0.06297 0.37899 -0.06945 0.38836 -0.07523 C 0.39114 -0.07685 0.39323 -0.08033 0.39618 -0.08172 C 0.40729 -0.08704 0.41823 -0.0926 0.42951 -0.09746 C 0.45364 -0.1081 0.47517 -0.12824 0.50017 -0.13542 C 0.50416 -0.13773 0.50764 -0.14167 0.51198 -0.14329 C 0.52639 -0.14908 0.54323 -0.15116 0.55764 -0.15764 C 0.58177 -0.16829 0.5427 -0.15463 0.5717 -0.16412 C 0.57621 -0.16806 0.58125 -0.16736 0.58645 -0.16945 C 0.60277 -0.1757 0.61961 -0.18218 0.63645 -0.18496 C 0.65937 -0.19375 0.68264 -0.20185 0.70607 -0.20857 C 0.71284 -0.2132 0.72014 -0.21505 0.7276 -0.21644 C 0.73298 -0.21922 0.73923 -0.21945 0.74427 -0.22292 C 0.75139 -0.22778 0.75729 -0.23542 0.76389 -0.24121 C 0.76527 -0.2426 0.76718 -0.2426 0.76875 -0.24375 C 0.77187 -0.24607 0.77482 -0.24885 0.7776 -0.25162 C 0.78281 -0.25672 0.78645 -0.26528 0.79236 -0.26875 C 0.80902 -0.27871 0.7993 -0.27361 0.8217 -0.2831 C 0.82639 -0.28866 0.83125 -0.29375 0.83541 -0.3 C 0.83784 -0.30371 0.83906 -0.30903 0.84132 -0.3132 C 0.84427 -0.32685 0.84635 -0.34097 0.84826 -0.35486 C 0.8434 -0.37408 0.84114 -0.39306 0.83159 -0.40996 C 0.825 -0.42153 0.82882 -0.41922 0.82274 -0.42153 C 0.81336 -0.43403 0.81944 -0.42801 0.80312 -0.43611 L 0.80312 -0.43588 C 0.80208 -0.43704 0.80104 -0.43773 0.80017 -0.43866 C 0.79878 -0.44028 0.79774 -0.44236 0.79618 -0.44375 C 0.79392 -0.44584 0.79079 -0.44607 0.78836 -0.44769 C 0.77708 -0.45533 0.76354 -0.46135 0.75121 -0.46482 C 0.74618 -0.46922 0.74045 -0.47107 0.73454 -0.47269 C 0.73316 -0.47361 0.73177 -0.47431 0.73055 -0.47523 C 0.7276 -0.47778 0.72482 -0.48102 0.7217 -0.4831 C 0.7085 -0.4919 0.69097 -0.49861 0.67656 -0.50139 C 0.67239 -0.50371 0.66927 -0.50648 0.66493 -0.50787 C 0.6585 -0.51343 0.66597 -0.50787 0.65399 -0.51181 C 0.64913 -0.51343 0.64461 -0.51597 0.63941 -0.51713 C 0.62621 -0.51621 0.62014 -0.51574 0.60902 -0.51042 C 0.60329 -0.50324 0.59514 -0.5007 0.58732 -0.49885 C 0.58159 -0.49584 0.56857 -0.49885 0.56857 -0.49861 E">
                                      <p:cBhvr>
                                        <p:cTn id="10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6 0.01852 C 0.10746 0.01065 0.11632 0.00185 0.12569 -0.00625 C 0.12882 -0.00903 0.13038 -0.01435 0.1335 -0.0169 C 0.13611 -0.01898 0.13889 -0.0213 0.14149 -0.02338 C 0.15347 -0.04352 0.16875 -0.06273 0.1875 -0.07037 C 0.19045 -0.08194 0.18784 -0.07315 0.20017 -0.09259 C 0.2085 -0.10579 0.21475 -0.12245 0.22378 -0.13449 C 0.22552 -0.1412 0.22847 -0.14514 0.23159 -0.15023 C 0.23541 -0.15625 0.23715 -0.16389 0.24149 -0.16968 C 0.24184 -0.17106 0.24166 -0.17268 0.24236 -0.17361 C 0.24548 -0.17778 0.25382 -0.18634 0.25816 -0.18796 C 0.26284 -0.19236 0.27361 -0.19444 0.27968 -0.19583 C 0.28541 -0.19907 0.29114 -0.20023 0.29722 -0.20231 C 0.30642 -0.2088 0.31788 -0.20833 0.32777 -0.21296 C 0.33142 -0.21805 0.33993 -0.22639 0.34531 -0.22847 C 0.346 -0.22986 0.34635 -0.23125 0.34722 -0.23241 C 0.34809 -0.23356 0.35 -0.23356 0.35017 -0.23518 C 0.35069 -0.23889 0.35034 -0.24305 0.3493 -0.24676 C 0.34896 -0.24815 0.34739 -0.24768 0.34635 -0.24815 C 0.34097 -0.25116 0.33646 -0.25324 0.33055 -0.25463 C 0.32864 -0.25555 0.32673 -0.25694 0.32482 -0.25741 C 0.32343 -0.25787 0.32222 -0.2581 0.32083 -0.25856 C 0.31875 -0.25926 0.31493 -0.26134 0.31493 -0.26111 C 0.30555 -0.27106 0.29427 -0.2706 0.28264 -0.27292 C 0.24184 -0.27153 0.25955 -0.27338 0.24045 -0.26782 C 0.23784 -0.26829 0.23489 -0.26736 0.23264 -0.26898 C 0.23055 -0.2706 0.23646 -0.27685 0.23646 -0.27662 E">
                                      <p:cBhvr>
                                        <p:cTn id="10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C 0.02708 -0.01042 0.05937 -0.02222 0.08715 -0.02477 C 0.0934 -0.02708 0.09965 -0.02917 0.1059 -0.03125 C 0.11111 -0.03542 0.12725 -0.04051 0.1342 -0.04305 C 0.13871 -0.04467 0.14791 -0.04699 0.14791 -0.04699 C 0.15121 -0.05139 0.16163 -0.05486 0.16666 -0.05625 C 0.17517 -0.06204 0.18298 -0.06921 0.19218 -0.07315 C 0.19722 -0.08032 0.20451 -0.08842 0.21163 -0.09143 C 0.21684 -0.09815 0.22083 -0.10208 0.22743 -0.10717 C 0.22986 -0.11227 0.23194 -0.11134 0.23524 -0.11504 C 0.24236 -0.12268 0.24045 -0.12592 0.25 -0.12801 C 0.26198 -0.1419 0.27448 -0.17037 0.29114 -0.17523 C 0.29826 -0.18264 0.29531 -0.19537 0.29896 -0.20787 C 0.3 -0.21736 0.29965 -0.21921 0.3059 -0.22361 C 0.30712 -0.24259 0.31614 -0.28194 0.29896 -0.29676 C 0.29739 -0.3081 0.28784 -0.32754 0.27934 -0.33194 C 0.27534 -0.33773 0.2717 -0.3375 0.26562 -0.33866 C 0.25798 -0.34143 0.25208 -0.34398 0.24409 -0.34514 C 0.23646 -0.34815 0.22864 -0.35092 0.22152 -0.35555 C 0.13576 -0.35347 0.18333 -0.36805 0.15972 -0.34768 C 0.15573 -0.33657 0.15382 -0.33333 0.14409 -0.33333 E">
                                      <p:cBhvr>
                                        <p:cTn id="11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2146320" y="262080"/>
            <a:ext cx="4503600" cy="1712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1500120" y="128592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слова, противополож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по знач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3" descr=""/>
          <p:cNvPicPr/>
          <p:nvPr/>
        </p:nvPicPr>
        <p:blipFill>
          <a:blip r:embed="rId2"/>
          <a:stretch/>
        </p:blipFill>
        <p:spPr>
          <a:xfrm>
            <a:off x="2073240" y="3181320"/>
            <a:ext cx="4626000" cy="1731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965520" y="4357800"/>
            <a:ext cx="78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Calibri"/>
              </a:rPr>
              <a:t>слова, близкие по знач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6572160" y="2143080"/>
            <a:ext cx="20718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0:00:33Z</dcterms:created>
  <dc:creator>ru.soft</dc:creator>
  <dc:description/>
  <dc:language>en-US</dc:language>
  <cp:lastModifiedBy>Boris</cp:lastModifiedBy>
  <dcterms:modified xsi:type="dcterms:W3CDTF">2013-10-27T13:28:25Z</dcterms:modified>
  <cp:revision>135</cp:revision>
  <dc:subject/>
  <dc:title>Слайд 1</dc:title>
</cp:coreProperties>
</file>